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964-56FC-4C2D-AED7-33D40B91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FAC-C811-4274-A54C-2857D0D9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6ED-9486-4553-84A5-AB06E129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A6A-30D0-4EDA-AF17-F1D42D03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E1F-DB73-4823-9776-AE7B1806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646-FD8B-4900-B60C-ABB49FF5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ED1-E83A-4C91-976A-59756EBE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FC66-BBA2-4B2C-86AF-C8130932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BCC-0694-40E1-982C-BBE82721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AFD-B278-47BB-85EB-A16A6B86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6DC-4DF8-4925-99FB-BC384EA2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B538-AA12-4E38-AA06-4C806414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E467-A782-4FC5-9374-1B6674277A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9898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 01 «Реализация лекарственных средств и товаров аптечного ассортимента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К 01.01. «Лекарствоведение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2.МДК 01.01.2. «Фармакогнозия»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«Лекарственные средства, влияющие на функции исполнительных органов и систем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енное растительное сырье слабительного действия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подготовки специалистов среднего звена по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и 33.02.01 Фармац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7280" y="4653000"/>
            <a:ext cx="4465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подав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врилова Наталья Михайл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179280" y="40464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ГБПОУ «Самарский медицинский колледж им. Н. Ляпино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348000" y="6237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амара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7" name="Picture 6" descr="Крушина ломкая (Ольховидная): описание, применение, сбор — Алтайский Кедр"/>
          <p:cNvPicPr/>
          <p:nvPr/>
        </p:nvPicPr>
        <p:blipFill>
          <a:blip r:embed="rId1"/>
          <a:stretch/>
        </p:blipFill>
        <p:spPr>
          <a:xfrm>
            <a:off x="0" y="31680"/>
            <a:ext cx="85327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94232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Жостер слабительный (крушина)"/>
          <p:cNvPicPr/>
          <p:nvPr/>
        </p:nvPicPr>
        <p:blipFill>
          <a:blip r:embed="rId1"/>
          <a:stretch/>
        </p:blipFill>
        <p:spPr>
          <a:xfrm>
            <a:off x="1116000" y="189000"/>
            <a:ext cx="6551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Сенна (кассия) лист, 50 г (ЦСИ) - купить по низкой цене в фито-аптеке  Русские Корни"/>
          <p:cNvPicPr/>
          <p:nvPr/>
        </p:nvPicPr>
        <p:blipFill>
          <a:blip r:embed="rId1"/>
          <a:stretch/>
        </p:blipFill>
        <p:spPr>
          <a:xfrm>
            <a:off x="250920" y="476280"/>
            <a:ext cx="8569080" cy="60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42932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Ревень тангутский: фото, описание, применение"/>
          <p:cNvPicPr/>
          <p:nvPr/>
        </p:nvPicPr>
        <p:blipFill>
          <a:blip r:embed="rId1"/>
          <a:stretch/>
        </p:blipFill>
        <p:spPr>
          <a:xfrm>
            <a:off x="250920" y="404640"/>
            <a:ext cx="86468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Стальник полевой - Сады Сибири"/>
          <p:cNvPicPr/>
          <p:nvPr/>
        </p:nvPicPr>
        <p:blipFill>
          <a:blip r:embed="rId1"/>
          <a:stretch/>
        </p:blipFill>
        <p:spPr>
          <a:xfrm>
            <a:off x="250920" y="549360"/>
            <a:ext cx="871200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талон отве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68280"/>
          <a:ext cx="8229600" cy="5113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400960" cy="5857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632523"/>
                </a:solidFill>
                <a:latin typeface="Calibri"/>
              </a:rPr>
              <a:t>Спасибо за </a:t>
            </a:r>
            <a:r>
              <a:rPr b="1" i="1" lang="ru-RU" sz="8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нимание</a:t>
            </a:r>
            <a:r>
              <a:rPr b="1" i="1" lang="ru-RU" sz="8800" spc="-1" strike="noStrike">
                <a:solidFill>
                  <a:srgbClr val="632523"/>
                </a:solidFill>
                <a:latin typeface="Calibri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 rot="10800000">
            <a:off x="456480" y="6126120"/>
            <a:ext cx="7900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Актуальн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ры все чаще относят к «болезням цивилизации». Питание современного человека, особенно живущего в крупном мегаполисе, нельзя назвать сбалансированным: перекусы «на бегу», употребление рафинированной пищи, полуфабрикатов, бесконтрольное и неоправданное использование антибиотиков и других препаратов, отпускаемых без рецепта, стрессовые ситуации, малоподвижный образ жизни (машина, телевизор, компьютер) – все это неблагоприятно сказывается на пищеварении, приводит к различным нарушениям в работе ЖКТ, в частности – запорам.  В гастроэнтерологии жалобы на запор превалируют над всей остальной патологией. В промышленно развитых странах возникла их настоящая «эпидемия», от 10 до 50% населения этих стран периодически страдает запорами (причём женщины в 3 раза чаще, чем мужчины), хотя только 3-5% людей обращаются к врач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нание фармакологической характеристики лекарственного растительного сырья (ЛРС) слабительного действия будет способствовать усовершенствованию оказания фармацевтических услуг посетителям апте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Вопрос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средства называют слабительн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 счет каких БАВ сырье оказывает слабительный эффек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в механизм действия различных групп растительных слабительны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казания слабитель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абительные – это лекарственные средства, усиливающие перистальтику кишечника и ускоряющие его опорож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9280" y="3632040"/>
            <a:ext cx="5113440" cy="295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12"/>
          <p:cNvPicPr/>
          <p:nvPr/>
        </p:nvPicPr>
        <p:blipFill>
          <a:blip r:embed="rId2"/>
          <a:stretch/>
        </p:blipFill>
        <p:spPr>
          <a:xfrm>
            <a:off x="5364000" y="4005360"/>
            <a:ext cx="3492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лассификация и механизм действия слабитель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тительные слабительные средства по механизму действия делят на  групп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РС, содержащее антрагликози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РС, содержащее полисахариды (набухающи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тительные жирные мас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РС  с другим механизмом дей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picture"/>
          <p:cNvPicPr/>
          <p:nvPr/>
        </p:nvPicPr>
        <p:blipFill>
          <a:blip r:embed="rId1"/>
          <a:stretch/>
        </p:blipFill>
        <p:spPr>
          <a:xfrm>
            <a:off x="1619280" y="3933720"/>
            <a:ext cx="2949480" cy="26654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56" name="Rectangle 5"/>
          <p:cNvSpPr/>
          <p:nvPr/>
        </p:nvSpPr>
        <p:spPr>
          <a:xfrm>
            <a:off x="3564000" y="4869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набухающие и антрагликоз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916360" y="53006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растительные  мас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Основные показания к применению   слабительных средст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 хронических запор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 патологии прямой кишки, когда дефекация болезненна, а натуживание ведет к прогрессированию  болезни и может вызвать кровотечение, при грыжах, геморр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жно  соблюдать рекомендуемые до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ительный прием препаратов не рекомендуется, т.к. возможно привык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Слабительные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сре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11280" y="1125360"/>
          <a:ext cx="7848360" cy="5328000"/>
        </p:xfrm>
        <a:graphic>
          <a:graphicData uri="http://schemas.openxmlformats.org/drawingml/2006/table">
            <a:tbl>
              <a:tblPr/>
              <a:tblGrid>
                <a:gridCol w="2198520"/>
                <a:gridCol w="2006640"/>
                <a:gridCol w="1962360"/>
                <a:gridCol w="1680840"/>
              </a:tblGrid>
              <a:tr h="1479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нтрагликоз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лстый кишеч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исахар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набухающ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лстый кишеч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нологликоз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ирные мас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нкий кишеч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48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 листья сен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елчегонное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 кора круш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плоды жос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корни рев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держи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убильные веществ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малых дозах вяжущее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 слоевищ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аминар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держит йод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нтисклеротическое, нормализу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мен веществ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 семена ль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мягчительное, антисклеротическое, противовоспалительно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рни сталь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кровоостанавли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юшее, противовоспалительно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касторов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оливков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подсолнеч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 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 1 ст.л. натоща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1332000" y="191628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Определить растения на слайда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laminariya-yaponskaya-v-srede-obitaniya"/>
          <p:cNvPicPr/>
          <p:nvPr/>
        </p:nvPicPr>
        <p:blipFill>
          <a:blip r:embed="rId1"/>
          <a:stretch/>
        </p:blipFill>
        <p:spPr>
          <a:xfrm>
            <a:off x="1042920" y="333360"/>
            <a:ext cx="734544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8T16:32:31Z</dcterms:created>
  <dc:creator>admin</dc:creator>
  <dc:description/>
  <dc:language>en-US</dc:language>
  <cp:lastModifiedBy>17 к</cp:lastModifiedBy>
  <dcterms:modified xsi:type="dcterms:W3CDTF">2024-02-14T09:02:34Z</dcterms:modified>
  <cp:revision>33</cp:revision>
  <dc:subject/>
  <dc:title>Тема:Ассортимент ветрогонных лекарственных средств</dc:title>
</cp:coreProperties>
</file>